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89D-D910-471C-9EC8-5496C893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CE6-FE00-44AE-990F-4A07B83F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B38-DF96-4FF7-8000-23A5088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068-3C1C-4429-AEEE-7F567209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F42-ADEC-4910-BF82-59BBB58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A9BB-5C12-44CF-AEA0-8427115D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7074-0697-41D4-9CBD-61117EA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A75-56DC-4569-BB44-4151CE9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4EB-A920-42ED-8035-8295823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274-C9E1-42D9-B679-3BC9E4AF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FDA2-8099-4C62-A819-6F74257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D40-111F-4495-B80B-D0231F64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46E-FC7F-42D3-A095-95FF87F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B73E-F384-4EC0-A0C0-175064B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773-B412-468A-9AA2-C10626A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DB39-D122-4B22-B907-935D1D15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B669-D878-4279-AB6A-15A378D9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792-8338-4B6C-8F46-0946C9D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0C1-1195-4DB1-AA9C-0FF99B15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E9C-73F2-4046-A136-C984FE1F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942-CDFB-458B-9FE3-0D31DD6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C78-6A3E-4CE7-83B9-10EEF1E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932-C6E7-46F0-8032-16BBBE3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9C2-1136-4162-AAD0-C83EE6A0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294-FE11-46DC-A407-02A0B79D9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42C-9C36-4F80-B1FE-5AC5209131F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nouns are words that take the plac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noun must agree with the noun it repl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, she, I, you, and it are pronouns that take the place of singular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a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a dollar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a doll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ar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ll take us to the park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ll take us to the par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book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on the table.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I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on the t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nouns we, you, and they can take the place of plural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 when you are speaking of yourself and another person (Katie and I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 when you are speaking of two people not including yourself (Nathan and Dakota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noun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ell out of his chair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ell out of his c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ne and 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nt to the stor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nt to the s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n into the street.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n into the str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pp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good for you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good for y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s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d to a new house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d to a new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o and 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ve close to m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ve close to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8:13:25Z</dcterms:created>
  <dc:creator>GCSD</dc:creator>
  <dc:description/>
  <dc:language>en-US</dc:language>
  <cp:lastModifiedBy>teacher</cp:lastModifiedBy>
  <cp:lastPrinted>2005-02-16T18:37:08Z</cp:lastPrinted>
  <dcterms:modified xsi:type="dcterms:W3CDTF">2011-02-07T01:14:39Z</dcterms:modified>
  <cp:revision>5</cp:revision>
  <dc:subject/>
  <dc:title>Pronouns</dc:title>
</cp:coreProperties>
</file>